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4E6B-8375-4F62-834A-13DD9F25C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1261-092C-4A33-B1F2-D34FB127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AF5E7D-9DA6-403E-A1B6-FEB81A5F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D57120-E747-4AD0-A3BA-6C53D4DA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18B7FB-0779-4B42-9CB1-0CDF6D9A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E6564B-56B0-4C19-95D6-653B4111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493234-453C-474D-B535-DA3220C7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AEE07-F7DF-49B8-A882-24EBD6B3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133F5-E322-432B-9BFB-24183E5A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D2D641-2F9F-4243-A380-44E99F15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23BDA6-D221-4155-940F-3F092895EE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E4403-74D1-4CFD-9A68-21BF6D85B5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E57A-03B9-4285-AB6F-7246B5F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5AA0-B9AC-4846-9E70-116D6ED0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362BE-6048-406D-A462-935E3F73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56AF9-58BB-4368-8B56-FF44B5C1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C710F-8C88-443C-B95B-E69340A1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54D4B-9738-485C-BD79-F1CDA245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A1231-F523-4EFC-8DC4-6991F4E7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E83CB-59FE-4655-AAF5-EEF19FD6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C456-1C3D-413E-9693-FCF17172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58DBD-2CEA-4B1F-BC5D-0108EAB1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D3A2-744D-41BC-9712-301EE763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92C5-12A8-47B1-A67F-DB4E501C55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E7610-3715-4BED-9248-3A2450F147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F16949-E768-4E65-A21F-8883735922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B11DA5-E7E0-48FE-9C34-33D597CB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A18114-AF82-41A7-9370-A5E453BE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410D0D-7143-4299-B81B-0079920F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E834DA-7DC2-4C1D-BC82-4492936D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B60C3-0815-4B2D-A7DE-E8FAA8F8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7827C1-5376-4589-9846-FC5F8F74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FF5016-7374-453B-ADDD-EBDC5072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834758-19F3-47E3-A73F-09C58467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3D53D-C246-4DF6-ABE4-F90A7BA1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E9FE27-1AA0-4B82-A884-E9BC5544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BCEEC-F71C-4E42-A6BC-AF8A8BE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3E5A13-CDDA-4914-8EEA-EE0C831BF6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5CB17-3D18-47DD-9991-F54D411ED3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0DED0-71FA-4753-92AA-E8BB5E37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B8EC6-6F22-499D-95A9-EAFF1A3A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8E3A8-ACCE-4CB6-B3BF-0A412B69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63671-1595-4A45-8A87-3A8AB242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2E8C2-3D16-4CEC-BFB4-5E024E34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0DC75-AB63-41DB-92BC-24D2E31F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EA861-C8FB-42B0-9DE6-CB0E2E49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E32FD-24C5-43DE-A498-0A84FE31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D3A3E-FC4C-4880-9F2A-5074B195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7A537-2517-45FA-BC12-BA84DB5D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B74FF-4F3B-4367-874C-1BA18A2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8FC92-C7A4-497D-BF14-079E7AE717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6514F-ED4E-4402-8A71-2A8765297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4235B-C32F-4D0E-8CF4-DF1A864E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8DCBA-9073-4D76-974E-1CC7376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9478B-43C1-49FC-99CA-4819AE8D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470C1-3B94-418D-8252-73C1E3BB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34CDD-8706-48E8-912D-A00F5BFE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1D39D-1B0D-478D-B962-2522E090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5BE22-D89C-4686-B835-AA8A2ACD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17BFF-A90F-44CE-A67D-9E035B45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283AD-ABB9-4190-B9AB-753C843B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B239D-EBF9-422A-83F7-F217154D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8B144-E616-4B8B-886E-2B0390E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7F1BD-AF20-4614-A70D-47477507D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A2DD0-C119-4430-B482-BF27D8F4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BC0A2-185B-4691-81E8-CC44EBBF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B6774-8633-4BC6-97C8-64C1CB4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80EE1-E6BB-455A-B19B-44192D5D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5682A-2681-4769-B662-25BCC29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FDC57-3EDB-4468-8266-08B632F7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7B98D-0A6E-444E-8FA3-BBACF5BC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6EB6C-9298-4FFD-AFBA-8B8097A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7F0F2-2775-434E-B733-8029C20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81C32-8442-4B9E-BFF5-D8C9B961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4A752-53BF-439E-B047-2AD9BB97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1D06E-8982-4F04-A7D7-1565B468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F473E-767B-4133-A8D0-75784BFE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BFF59-76C3-4AEE-937E-2ADE285B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34B66-9EA7-4A4E-A4F4-9531E00D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82FE9-AAE5-452C-965E-994399F1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B62EC-9A8B-4848-9A7C-9288EC7D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9BC8B-44E6-41B3-9101-ACDF0399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49067-A57E-400C-93B3-343F4ED7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635EF-7761-4F1D-9251-333FCB3F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459B1-AE78-401A-ABD1-F166997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E2702-128A-48EA-84A8-2C106CCE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E6C60-D191-40C3-9519-447B08DD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8CCC6-086F-4663-A0D4-1317E5BE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402E8-FF01-4E04-B8DE-7DA3BDC1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D6052-6082-4FB5-BD0C-60AD67C5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33B71-B064-4D22-A7A3-68451B53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F9537-6F47-4620-8F9F-8F49CA67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FF386-63BB-495B-A149-E260E1FE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ED633-F257-41A9-AE31-397B7787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1FBF7-E872-4C45-86A4-A98E504B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C8AC2-C892-4FCD-A92F-FDF90883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B7E05-13E3-44C8-8145-13679060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FC821-D234-465F-8807-B8351A3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0F267-65F3-4F3D-B201-DFA333FB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47924-2999-4145-87E8-12C40C7E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869FD-54A7-4F47-AE10-59167F8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6FA53-1AFA-4681-B9E0-C22F4397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72570-DFF9-4F35-9AC8-27150797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A9015-B2A9-43D8-9061-365824CF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E1A4B-8916-4183-BDF8-49502721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B49B1-5B69-47EF-99A0-92DC0883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27ECB-B43E-4D1C-99CD-F0B29976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B5EEB-5543-41D1-AC21-9D7049C8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DD5CB-C0D8-450D-BE48-434EF58B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3BE30-D01A-4130-832C-5627A2B1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C23BD-8DFE-4569-9F0B-9169005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BA24-02F1-4573-BFDC-03DBB2B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D9375-2CCE-4464-94EE-4A17309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CDE02-F517-4117-AC7D-C92C144F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A769A-2F51-49A7-AE0D-8742EEC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FAED8-29CA-4E59-AB73-7034201E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63A39-6D25-40E7-B7BD-BFA5691C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A4848-6F5E-44C1-83D9-4C86C9A2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AA5A5-CE41-4EB8-B00D-DF0E89FE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94838-0492-4376-B807-0547AD81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9AD58-7E58-4972-886F-58286056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7F435-A263-4FBC-B2B3-870B7DEF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C2635-8501-4ADC-A878-A66D1B94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1BB86-D658-489D-AB0E-197ADB6B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79679-F1B4-4B2E-AA72-4C4E79AF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3EF68-3482-476B-A1BC-6308B474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63314-7CCE-45C9-B9E7-9C70E2CC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5C98B-A4D8-4DC0-9424-F17D66B5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82E12-C67E-4A1D-82F3-E1E483A8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C258C-429C-4CA3-9C71-70A4AC65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F6CFF-C783-4CD0-8048-2F3A109F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4C01A-ABCD-43AB-A644-DCBAC249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43827-C2E2-458F-A81F-029C729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1C490-5CDC-4249-A554-97D92DE5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26A10-45E8-4843-AB3D-116A3BF7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99A58-2864-4FD8-A8E9-A08A2C53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27261-5D48-4E46-9F05-8078019D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B2499-9008-46DE-BE8F-41D4C3C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40517-0452-4F40-B37F-9B297C0E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76CE2-2574-48F6-811A-68BC4735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DDD00-F9EA-4F42-9931-B4E7B22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3A82C-AF1F-415A-9608-CCAAF100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D5FFC-A1A5-48D9-8A1A-A8E5B1AA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6D5582-7595-4C8A-9452-AA1EE2F4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5FDC5E-42DA-487D-9711-E586B555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BA822-C8E1-481A-B5E0-76EE268B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145DE-574A-4C77-B0D1-6CED3385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1E46C-FE7E-4425-97DC-A9CC82D3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2A2DA-0D67-453F-A393-D0A798A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375E7-9631-486D-8C95-56A6B81B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5756E-5277-4F39-815B-F9F67304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5F45D-0FBE-44E0-A2A3-C1E6EB5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B2C45-A832-45E3-9A2C-E548787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7FF15-F794-4937-A38E-BB27243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9EFF3-2D48-4FD2-9CD9-4ED2D908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A4F5B-5AE0-49FD-8846-6A6ACDD4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03789-D508-4FEA-B92F-7780C14E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28E28-8102-40F0-9E1B-CE117E9A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D81F5-B46D-4C0A-B2DA-86BE45C5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B24CC-BFCF-4DC1-AC88-774AA00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9AFF3-E3F4-414C-AA0B-B23A0CB7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B90B3-6F5A-411A-91CB-5EAB6CC7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299FE-06F3-49C7-BFB1-3467315F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EE41B-652C-4CE0-801D-B57FFEE2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5818B-AF76-4049-B69F-C004857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9FACB-726B-4CF4-9BE4-8376333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0AF24-A1FC-4177-9D5A-B744B7C0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19267-5935-439F-9CE1-D5254C8BC2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BDE42F-906A-495F-86E1-6BA371AF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7B920-96BA-4570-BCD5-071BA626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78601-7140-47FF-8FE4-0A1D0402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046D4-F55B-4F59-A5AC-BB91B286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3F3E4-CA3F-458C-82CA-482BE737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C512A-2DA5-4CE6-B6CB-D827D626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9987A-8B5F-4592-952D-88E58666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CD464-CA66-4D9F-8DC0-C9EDA180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1EBCA-EA87-4F8C-B961-BF3208A8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033C35-CF11-4203-BF9D-F0E5570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B62EE-FB65-49FB-A02E-9672A003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3019F-0777-4462-A722-ADD57013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E0A24-053B-46B2-A315-178F255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C1044-65F5-4D7D-8675-5BEA5800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DB039-C542-4B5C-A7E2-414A8A6C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8453C-BE8C-4B3E-A3B6-43B3C1A7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9C1218-A13A-47B0-98C5-64F4A450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C866B-04BD-4DF8-9BF1-73B16516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EE86DC-E306-43B9-84AE-EB8E0CF0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2FE15-3867-4663-B7CF-40416DA8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0A923-C360-4A86-8690-F75F562C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5E3D1-713A-4642-911E-4674186B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612EA-566A-42D0-AA40-F1634B84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345C1-7E1D-4704-8F72-7396FB32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368577-96D6-4500-B645-5664F45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5D7BD-0595-4220-8402-FAD2AA56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516A5-24F5-4752-BFD0-92F7B5C6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F5DDA-8BF5-443B-8A07-1AF8335F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04205-769D-4880-81E2-90099A2B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EB2000-A250-445C-B82A-EFDB264D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3DFAB1-B860-4255-A676-0ED40EEC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711AC-FE3B-4586-9FC7-ECFD5379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F867E-7153-4855-AF5F-99074F05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16EE9-F53D-44A1-8DC9-CC946A48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EA18C-BE88-4A6B-8F2B-E6695D82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B6DE1-5FCA-4E1B-8959-B5CCDA37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F6DCB-79F6-4254-82EA-B54A5D6A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66164-91F8-4757-B23A-EC03D435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ED3BEB-5942-4454-9258-321C9CD4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DDBA2-A1F9-46B1-91B4-E6C27683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DA0D2E-F720-4B6F-8AC6-1FCBB7B6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6A047-9C17-4A2C-B65D-C4C71F1D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8687C-2692-4544-9895-642D82EF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F5C2-B69F-4383-BD05-37708275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B8EA6D-C860-4645-A685-0B6898BA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A4BDC-A4D4-4771-86BC-0C703092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50178-0576-40DC-9790-6A992045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50F91-8BC7-4570-A56B-05111D16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E47F3-78B2-4DB7-A06F-DA74432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178E2-27A5-48D2-8E10-8EDABA33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A172D-F135-4E41-BEA4-3BB95A536F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6628-E1D3-472D-B222-8EA54C8DA3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6A6C-FDF8-4B2A-846A-0D6BB99F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97B1-A165-4765-9F75-F86F795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926E-F38C-43F5-BB1A-A3ECC7A6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0C72-818F-482A-B2F9-FE9241E1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A0C0-9C17-47F4-9C68-C422D5D8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B06C9-1F67-420C-9F08-2B167576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DD4A-C2F4-4D4A-BDA8-11C560A4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6C94-AB8D-4AC1-B016-28DB4098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9E95-6A9D-4373-A217-500B640B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CB0B-338D-49A3-A70A-67BBBA67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0972-CC30-4285-81B8-0B8F8C4B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A30B-F0E6-447B-A80D-63DF8415E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13057-398A-459B-B93C-77B1E35D2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7C62-5B6A-4440-AF44-34D0ECE2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C3413-7371-4B0D-AECB-CFE61E06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CEF2C-F11E-42ED-B489-5211A4F8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D1643-4AC8-4A51-914F-AA629EBE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354CF-2852-42CF-BF4B-A884DDF2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894F6-836F-43E8-AC32-A8B9C153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05A01-621A-4C53-8C12-BB82E7BD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570CF-E712-4383-BA3E-CE030860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6F9BB-B359-4C5C-83E4-D57D53D6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CF220-EA95-4DC9-81E6-8A55669D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7F5D5-3175-429A-AA19-311257C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D3E8-427D-43D3-AE67-243BF4C5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5D853-DB1B-47A2-B355-ECCB21A22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C7B72E-DF8D-4CF5-9EB8-59019F234B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69819B-D908-463D-92BF-FFD9F962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58F5B-602D-43C7-B086-8246CAB2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E5E04-72FC-4E72-AD83-BC6E6ED9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65CAC6-43B9-4B14-B5DC-9605A70D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39C63E-30A9-4A09-841D-E834BFA2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A18D30-2045-4AF6-8C5A-466219A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6B046-F660-48F0-A066-60D35603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504E6C-B54D-4B36-824B-7D584E49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85C7-F66B-486D-AF46-0B663FB4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24E43A-BFA6-4C1D-B767-82B7E7BC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3E2B4-01B4-406A-87D5-5F3C33B3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38DAD5-3C3E-425A-87F4-6525455748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41A2F-7AAC-43F1-AA8B-8EC3CC069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4C5A-DEEB-4103-9093-5CC26CE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9255-8869-4AE0-9740-6BFD557F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63DEC-64DA-4ED1-A31B-B9DFEC1E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754BC-BF78-46E7-8A43-849E0333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40DF-DB70-49BA-98D9-57D22B9B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582F-6D15-4E35-813E-6ECA1B5A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B3C6-86D4-442E-BC18-3D18F602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76A58-9D34-473A-BC1D-839D9AB6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C37A6-4A67-41B4-9A77-EB922BCD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DF804-5E78-4BA1-8208-B4B261C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4923D-C2C0-4268-A572-A52FDED3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2A90A-0225-4016-8300-74D1A2E60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87260-0D16-4D27-8610-53973C517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69C81-8727-4DA4-9F7D-17DB0F80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DB00C-B680-418A-A3AC-BD89B9DA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61353-3B6E-4838-80DC-B32E12D9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48C01-80BA-4AFB-9FCC-1AE9A894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4395-9D77-4E07-B6E5-F9FDA64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7B924-56A1-4910-8C11-2C52075D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487BF-B048-45C1-B1F8-5FC6D257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A425F-06A3-4928-B898-F2113BAF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809C8-F05C-4F04-AF09-97140F8F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06DE8-F745-4023-98DC-1627A4B2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C0225-F3C6-4966-9F8F-1ACEEB71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F7249-4D15-4831-977C-254943579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28C82-C851-419A-86CC-0AFF9F14F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B4D45D-DC17-4A7C-A624-9B23FA68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C637F8-5618-447B-A52E-B3A82CFC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0C7D-9BFF-498D-BDF8-A978B5540B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E772-800D-45BF-99CE-34996D5D48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8C0-0F4E-43DC-8F4F-839DAC4FD4E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8610-D76F-44D9-AB6B-D6865BB35F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0CD2-7735-4B8A-A58A-93383CDB0F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08C2-F541-4293-BDA4-7E81C28212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974-C234-4A99-BC57-B80B694CE1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BFB-3E1E-4E4B-82CE-CACB98980FF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B371-0FB5-420E-AAEA-B216286B54F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40F9-21E2-43DA-BFB7-D52498F487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601B-5EBB-4D71-BA70-7DE8405997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83EC-7E20-4058-98C5-D86C9E54E4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7962-C02D-4B74-AA05-CF181300BF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C52-CD60-497B-8BDD-ACF1C22836F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264-136D-4460-931F-6204544472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D54-A3FC-4EE7-9FEF-934845C771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28E3-E239-4C06-9F8A-F2ACFE543C2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89DE-3790-492B-B3AC-F11EB3A221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9324-BECA-44FB-95D0-6902BF62DB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0A52-0A92-4768-ACF9-B95A80EAD1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13BA-E988-46C5-ABF4-6CEF7F23894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F6F8-E202-4C8E-9904-A420B78CEB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B74D-2C93-48B0-A764-FE20B7EB76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5A46-B610-445A-9496-36093AE675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6284880" cy="360"/>
            <a:chOff x="2284560" y="2448000"/>
            <a:chExt cx="62848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6284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628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87480" y="1744560"/>
            <a:ext cx="88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以内的加法和减法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1873080" y="274968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1316160" y="2728800"/>
            <a:ext cx="651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三 位 数 减 三 位 数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3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15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6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3" name="文本框 99"/>
          <p:cNvSpPr/>
          <p:nvPr/>
        </p:nvSpPr>
        <p:spPr>
          <a:xfrm>
            <a:off x="279360" y="1114560"/>
            <a:ext cx="81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小平正在看一本书，这本书总共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页，他已经看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页，还剩多少页没有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1"/>
          <p:cNvSpPr/>
          <p:nvPr/>
        </p:nvSpPr>
        <p:spPr>
          <a:xfrm>
            <a:off x="1700280" y="2416320"/>
            <a:ext cx="380844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5-256=34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3"/>
          <p:cNvSpPr/>
          <p:nvPr/>
        </p:nvSpPr>
        <p:spPr>
          <a:xfrm>
            <a:off x="1527120" y="3573360"/>
            <a:ext cx="472932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还剩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4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没有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6"/>
          <p:cNvSpPr/>
          <p:nvPr/>
        </p:nvSpPr>
        <p:spPr>
          <a:xfrm>
            <a:off x="2379600" y="1774800"/>
            <a:ext cx="2163960" cy="647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43"/>
          <p:cNvGrpSpPr/>
          <p:nvPr/>
        </p:nvGrpSpPr>
        <p:grpSpPr>
          <a:xfrm>
            <a:off x="2411280" y="2494080"/>
            <a:ext cx="2683080" cy="1189800"/>
            <a:chOff x="2411280" y="2494080"/>
            <a:chExt cx="2683080" cy="1189800"/>
          </a:xfrm>
        </p:grpSpPr>
        <p:sp>
          <p:nvSpPr>
            <p:cNvPr id="1011" name="Rectangle 51"/>
            <p:cNvSpPr/>
            <p:nvPr/>
          </p:nvSpPr>
          <p:spPr>
            <a:xfrm>
              <a:off x="2411280" y="2494080"/>
              <a:ext cx="2683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5  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－  </a:t>
              </a: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 8  0  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直接连接符 23"/>
            <p:cNvSpPr/>
            <p:nvPr/>
          </p:nvSpPr>
          <p:spPr>
            <a:xfrm>
              <a:off x="2411280" y="3646440"/>
              <a:ext cx="2021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Rectangle 51"/>
          <p:cNvSpPr/>
          <p:nvPr/>
        </p:nvSpPr>
        <p:spPr>
          <a:xfrm>
            <a:off x="3879720" y="357336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>
            <a:off x="3468600" y="357336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51"/>
          <p:cNvSpPr/>
          <p:nvPr/>
        </p:nvSpPr>
        <p:spPr>
          <a:xfrm>
            <a:off x="3029040" y="3573360"/>
            <a:ext cx="57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51"/>
          <p:cNvSpPr/>
          <p:nvPr/>
        </p:nvSpPr>
        <p:spPr>
          <a:xfrm>
            <a:off x="4498920" y="1770120"/>
            <a:ext cx="172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  <a:ea typeface="宋体"/>
              </a:rPr>
              <a:t>＝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  <a:ea typeface="黑体"/>
              </a:rPr>
              <a:t>1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1"/>
          <p:cNvSpPr/>
          <p:nvPr/>
        </p:nvSpPr>
        <p:spPr>
          <a:xfrm>
            <a:off x="684360" y="982800"/>
            <a:ext cx="237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算一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组合 16"/>
          <p:cNvGrpSpPr/>
          <p:nvPr/>
        </p:nvGrpSpPr>
        <p:grpSpPr>
          <a:xfrm>
            <a:off x="4211640" y="372960"/>
            <a:ext cx="4902120" cy="1360440"/>
            <a:chOff x="4211640" y="372960"/>
            <a:chExt cx="4902120" cy="1360440"/>
          </a:xfrm>
        </p:grpSpPr>
        <p:sp>
          <p:nvSpPr>
            <p:cNvPr id="1019" name="AutoShape 27"/>
            <p:cNvSpPr/>
            <p:nvPr/>
          </p:nvSpPr>
          <p:spPr>
            <a:xfrm>
              <a:off x="4211640" y="765360"/>
              <a:ext cx="3384000" cy="576000"/>
            </a:xfrm>
            <a:prstGeom prst="wedgeRoundRectCallout">
              <a:avLst>
                <a:gd name="adj1" fmla="val 55018"/>
                <a:gd name="adj2" fmla="val 351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笔算减法时应注意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图片 1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7835760" y="372960"/>
              <a:ext cx="1278000" cy="13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1" name="组合 18"/>
          <p:cNvGrpSpPr/>
          <p:nvPr/>
        </p:nvGrpSpPr>
        <p:grpSpPr>
          <a:xfrm>
            <a:off x="0" y="4216320"/>
            <a:ext cx="3668760" cy="1695600"/>
            <a:chOff x="0" y="4216320"/>
            <a:chExt cx="3668760" cy="1695600"/>
          </a:xfrm>
        </p:grpSpPr>
        <p:sp>
          <p:nvSpPr>
            <p:cNvPr id="1022" name="AutoShape 27"/>
            <p:cNvSpPr/>
            <p:nvPr/>
          </p:nvSpPr>
          <p:spPr>
            <a:xfrm>
              <a:off x="1741680" y="4223880"/>
              <a:ext cx="1927080" cy="891000"/>
            </a:xfrm>
            <a:prstGeom prst="wedgeRoundRectCallout">
              <a:avLst>
                <a:gd name="adj1" fmla="val -62995"/>
                <a:gd name="adj2" fmla="val 236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相同数位对齐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从个位减起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17" descr="]@P`{@U$K{A7A$9804YYMFT"/>
            <p:cNvPicPr/>
            <p:nvPr/>
          </p:nvPicPr>
          <p:blipFill>
            <a:blip r:embed="rId9"/>
            <a:stretch/>
          </p:blipFill>
          <p:spPr>
            <a:xfrm>
              <a:off x="0" y="4216320"/>
              <a:ext cx="1334520" cy="169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4" name="组合 20"/>
          <p:cNvGrpSpPr/>
          <p:nvPr/>
        </p:nvGrpSpPr>
        <p:grpSpPr>
          <a:xfrm>
            <a:off x="4300560" y="4057560"/>
            <a:ext cx="4594320" cy="1805040"/>
            <a:chOff x="4300560" y="4057560"/>
            <a:chExt cx="4594320" cy="1805040"/>
          </a:xfrm>
        </p:grpSpPr>
        <p:sp>
          <p:nvSpPr>
            <p:cNvPr id="1025" name="AutoShape 27"/>
            <p:cNvSpPr/>
            <p:nvPr/>
          </p:nvSpPr>
          <p:spPr>
            <a:xfrm>
              <a:off x="4300560" y="4510800"/>
              <a:ext cx="3024720" cy="496440"/>
            </a:xfrm>
            <a:prstGeom prst="wedgeRoundRectCallout">
              <a:avLst>
                <a:gd name="adj1" fmla="val 59078"/>
                <a:gd name="adj2" fmla="val 139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哪一位上的数不够减，从前一位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图片 19" descr="_4`F[E$PX4I}_~SSZVJ7V4J"/>
            <p:cNvPicPr/>
            <p:nvPr/>
          </p:nvPicPr>
          <p:blipFill>
            <a:blip r:embed="rId10"/>
            <a:stretch/>
          </p:blipFill>
          <p:spPr>
            <a:xfrm>
              <a:off x="7703640" y="4057560"/>
              <a:ext cx="119124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8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30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8" name="Rectangle 51"/>
          <p:cNvSpPr/>
          <p:nvPr/>
        </p:nvSpPr>
        <p:spPr>
          <a:xfrm>
            <a:off x="1328760" y="971640"/>
            <a:ext cx="646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国产电视动画片生产情况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图片 6152" descr="未标题-39"/>
          <p:cNvPicPr/>
          <p:nvPr/>
        </p:nvPicPr>
        <p:blipFill>
          <a:blip r:embed="rId8"/>
          <a:stretch/>
        </p:blipFill>
        <p:spPr>
          <a:xfrm>
            <a:off x="792000" y="1631880"/>
            <a:ext cx="75614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40" name="组合 1"/>
          <p:cNvGrpSpPr/>
          <p:nvPr/>
        </p:nvGrpSpPr>
        <p:grpSpPr>
          <a:xfrm>
            <a:off x="1822320" y="3575160"/>
            <a:ext cx="6386760" cy="1361880"/>
            <a:chOff x="1822320" y="3575160"/>
            <a:chExt cx="6386760" cy="1361880"/>
          </a:xfrm>
        </p:grpSpPr>
        <p:sp>
          <p:nvSpPr>
            <p:cNvPr id="1041" name="AutoShape 27"/>
            <p:cNvSpPr/>
            <p:nvPr/>
          </p:nvSpPr>
          <p:spPr>
            <a:xfrm>
              <a:off x="1822320" y="3575160"/>
              <a:ext cx="4680000" cy="935280"/>
            </a:xfrm>
            <a:prstGeom prst="wedgeRoundRectCallout">
              <a:avLst>
                <a:gd name="adj1" fmla="val 56106"/>
                <a:gd name="adj2" fmla="val 19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观察这个统计表，你能从中了解哪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信息？你能提出什么问题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2" name="图片 15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6931080" y="3575160"/>
              <a:ext cx="1278000" cy="1361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4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46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4" name="八边形 1"/>
          <p:cNvSpPr/>
          <p:nvPr/>
        </p:nvSpPr>
        <p:spPr>
          <a:xfrm>
            <a:off x="293760" y="1004760"/>
            <a:ext cx="54432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1000080" y="1004760"/>
            <a:ext cx="69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多生产多少部动画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7"/>
          <p:cNvSpPr/>
          <p:nvPr/>
        </p:nvSpPr>
        <p:spPr>
          <a:xfrm>
            <a:off x="2428920" y="2279520"/>
            <a:ext cx="2714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35-322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组合 8"/>
          <p:cNvGrpSpPr/>
          <p:nvPr/>
        </p:nvGrpSpPr>
        <p:grpSpPr>
          <a:xfrm>
            <a:off x="4857840" y="2565360"/>
            <a:ext cx="3571920" cy="1857240"/>
            <a:chOff x="4857840" y="2565360"/>
            <a:chExt cx="3571920" cy="1857240"/>
          </a:xfrm>
        </p:grpSpPr>
        <p:grpSp>
          <p:nvGrpSpPr>
            <p:cNvPr id="1058" name="组合 11"/>
            <p:cNvGrpSpPr/>
            <p:nvPr/>
          </p:nvGrpSpPr>
          <p:grpSpPr>
            <a:xfrm>
              <a:off x="4857840" y="2565360"/>
              <a:ext cx="3571920" cy="1571760"/>
              <a:chOff x="4857840" y="2565360"/>
              <a:chExt cx="3571920" cy="1571760"/>
            </a:xfrm>
          </p:grpSpPr>
          <p:sp>
            <p:nvSpPr>
              <p:cNvPr id="1059" name="TextBox 12"/>
              <p:cNvSpPr/>
              <p:nvPr/>
            </p:nvSpPr>
            <p:spPr>
              <a:xfrm>
                <a:off x="4857840" y="2565360"/>
                <a:ext cx="3571920" cy="15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4   3 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- 3   2   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  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直接连接符 13"/>
              <p:cNvSpPr/>
              <p:nvPr/>
            </p:nvSpPr>
            <p:spPr>
              <a:xfrm>
                <a:off x="5429160" y="3780000"/>
                <a:ext cx="2286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矩形 10"/>
            <p:cNvSpPr/>
            <p:nvPr/>
          </p:nvSpPr>
          <p:spPr>
            <a:xfrm>
              <a:off x="5715000" y="3851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11"/>
            <p:cNvSpPr/>
            <p:nvPr/>
          </p:nvSpPr>
          <p:spPr>
            <a:xfrm>
              <a:off x="6357960" y="3851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矩形 21"/>
            <p:cNvSpPr/>
            <p:nvPr/>
          </p:nvSpPr>
          <p:spPr>
            <a:xfrm>
              <a:off x="7000920" y="385128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TextBox 19"/>
          <p:cNvSpPr/>
          <p:nvPr/>
        </p:nvSpPr>
        <p:spPr>
          <a:xfrm>
            <a:off x="3857760" y="2230560"/>
            <a:ext cx="71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2"/>
          <p:cNvSpPr/>
          <p:nvPr/>
        </p:nvSpPr>
        <p:spPr>
          <a:xfrm>
            <a:off x="7143840" y="387504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23"/>
          <p:cNvSpPr/>
          <p:nvPr/>
        </p:nvSpPr>
        <p:spPr>
          <a:xfrm>
            <a:off x="6500880" y="387504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24"/>
          <p:cNvSpPr/>
          <p:nvPr/>
        </p:nvSpPr>
        <p:spPr>
          <a:xfrm>
            <a:off x="5786280" y="387504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5"/>
          <p:cNvGrpSpPr/>
          <p:nvPr/>
        </p:nvGrpSpPr>
        <p:grpSpPr>
          <a:xfrm>
            <a:off x="441360" y="2747880"/>
            <a:ext cx="4416480" cy="1460520"/>
            <a:chOff x="441360" y="2747880"/>
            <a:chExt cx="4416480" cy="1460520"/>
          </a:xfrm>
        </p:grpSpPr>
        <p:sp>
          <p:nvSpPr>
            <p:cNvPr id="1069" name="AutoShape 27"/>
            <p:cNvSpPr/>
            <p:nvPr/>
          </p:nvSpPr>
          <p:spPr>
            <a:xfrm>
              <a:off x="2215080" y="3208680"/>
              <a:ext cx="2642760" cy="999720"/>
            </a:xfrm>
            <a:prstGeom prst="wedgeRoundRectCallout">
              <a:avLst>
                <a:gd name="adj1" fmla="val -64893"/>
                <a:gd name="adj2" fmla="val 54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样列竖式？从哪一位减起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图片 1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441360" y="2747880"/>
              <a:ext cx="1277640" cy="1361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2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74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2" name="八边形 1"/>
          <p:cNvSpPr/>
          <p:nvPr/>
        </p:nvSpPr>
        <p:spPr>
          <a:xfrm>
            <a:off x="293760" y="1004760"/>
            <a:ext cx="54432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1"/>
          <p:cNvSpPr/>
          <p:nvPr/>
        </p:nvSpPr>
        <p:spPr>
          <a:xfrm>
            <a:off x="1785960" y="1144440"/>
            <a:ext cx="522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3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1"/>
          <p:cNvSpPr/>
          <p:nvPr/>
        </p:nvSpPr>
        <p:spPr>
          <a:xfrm>
            <a:off x="3232080" y="3097080"/>
            <a:ext cx="5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1"/>
          <p:cNvSpPr/>
          <p:nvPr/>
        </p:nvSpPr>
        <p:spPr>
          <a:xfrm>
            <a:off x="2589120" y="3097080"/>
            <a:ext cx="5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1"/>
          <p:cNvSpPr/>
          <p:nvPr/>
        </p:nvSpPr>
        <p:spPr>
          <a:xfrm>
            <a:off x="3500280" y="1073160"/>
            <a:ext cx="906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4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椭圆 10"/>
          <p:cNvSpPr/>
          <p:nvPr/>
        </p:nvSpPr>
        <p:spPr>
          <a:xfrm>
            <a:off x="3343320" y="2131920"/>
            <a:ext cx="3636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51"/>
          <p:cNvSpPr/>
          <p:nvPr/>
        </p:nvSpPr>
        <p:spPr>
          <a:xfrm>
            <a:off x="3503520" y="1641600"/>
            <a:ext cx="7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1"/>
          <p:cNvSpPr/>
          <p:nvPr/>
        </p:nvSpPr>
        <p:spPr>
          <a:xfrm>
            <a:off x="3081240" y="1641600"/>
            <a:ext cx="7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51"/>
          <p:cNvSpPr/>
          <p:nvPr/>
        </p:nvSpPr>
        <p:spPr>
          <a:xfrm>
            <a:off x="2744640" y="1641600"/>
            <a:ext cx="73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椭圆 14"/>
          <p:cNvSpPr/>
          <p:nvPr/>
        </p:nvSpPr>
        <p:spPr>
          <a:xfrm>
            <a:off x="2879640" y="2131920"/>
            <a:ext cx="36720" cy="36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21"/>
          <p:cNvSpPr/>
          <p:nvPr/>
        </p:nvSpPr>
        <p:spPr>
          <a:xfrm>
            <a:off x="1737720" y="627120"/>
            <a:ext cx="48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少生产多少部动画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24"/>
          <p:cNvGrpSpPr/>
          <p:nvPr/>
        </p:nvGrpSpPr>
        <p:grpSpPr>
          <a:xfrm>
            <a:off x="1932120" y="2101680"/>
            <a:ext cx="2682720" cy="1573560"/>
            <a:chOff x="1932120" y="2101680"/>
            <a:chExt cx="2682720" cy="1573560"/>
          </a:xfrm>
        </p:grpSpPr>
        <p:grpSp>
          <p:nvGrpSpPr>
            <p:cNvPr id="1094" name="组合 7"/>
            <p:cNvGrpSpPr/>
            <p:nvPr/>
          </p:nvGrpSpPr>
          <p:grpSpPr>
            <a:xfrm>
              <a:off x="1932120" y="2101680"/>
              <a:ext cx="2682720" cy="882360"/>
              <a:chOff x="1932120" y="2101680"/>
              <a:chExt cx="2682720" cy="882360"/>
            </a:xfrm>
          </p:grpSpPr>
          <p:sp>
            <p:nvSpPr>
              <p:cNvPr id="1095" name="Rectangle 51"/>
              <p:cNvSpPr/>
              <p:nvPr/>
            </p:nvSpPr>
            <p:spPr>
              <a:xfrm>
                <a:off x="1932120" y="2101680"/>
                <a:ext cx="268272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4  3 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－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8  6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直接连接符 15"/>
              <p:cNvSpPr/>
              <p:nvPr/>
            </p:nvSpPr>
            <p:spPr>
              <a:xfrm>
                <a:off x="2006640" y="2984040"/>
                <a:ext cx="2016000" cy="0"/>
              </a:xfrm>
              <a:prstGeom prst="line">
                <a:avLst/>
              </a:prstGeom>
              <a:ln w="1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7" name="Rectangle 51"/>
            <p:cNvSpPr/>
            <p:nvPr/>
          </p:nvSpPr>
          <p:spPr>
            <a:xfrm>
              <a:off x="3660840" y="2984040"/>
              <a:ext cx="576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矩形 22"/>
            <p:cNvSpPr/>
            <p:nvPr/>
          </p:nvSpPr>
          <p:spPr>
            <a:xfrm>
              <a:off x="3094200" y="310392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矩形 23"/>
            <p:cNvSpPr/>
            <p:nvPr/>
          </p:nvSpPr>
          <p:spPr>
            <a:xfrm>
              <a:off x="2451240" y="310392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矩形 28"/>
          <p:cNvSpPr/>
          <p:nvPr/>
        </p:nvSpPr>
        <p:spPr>
          <a:xfrm>
            <a:off x="2052000" y="3743280"/>
            <a:ext cx="38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组讨论：计算万以内的减法要注意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组合 21"/>
          <p:cNvGrpSpPr/>
          <p:nvPr/>
        </p:nvGrpSpPr>
        <p:grpSpPr>
          <a:xfrm>
            <a:off x="4743360" y="2133720"/>
            <a:ext cx="3514320" cy="948960"/>
            <a:chOff x="4743360" y="2133720"/>
            <a:chExt cx="3514320" cy="948960"/>
          </a:xfrm>
        </p:grpSpPr>
        <p:sp>
          <p:nvSpPr>
            <p:cNvPr id="1102" name="AutoShape 27"/>
            <p:cNvSpPr/>
            <p:nvPr/>
          </p:nvSpPr>
          <p:spPr>
            <a:xfrm>
              <a:off x="4743360" y="2133720"/>
              <a:ext cx="2356920" cy="82296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十位怎样算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3" name="图片 20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7401240" y="2169000"/>
              <a:ext cx="856440" cy="91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4" name="组合 25"/>
          <p:cNvGrpSpPr/>
          <p:nvPr/>
        </p:nvGrpSpPr>
        <p:grpSpPr>
          <a:xfrm>
            <a:off x="731880" y="4248000"/>
            <a:ext cx="3278160" cy="1338480"/>
            <a:chOff x="731880" y="4248000"/>
            <a:chExt cx="3278160" cy="1338480"/>
          </a:xfrm>
        </p:grpSpPr>
        <p:sp>
          <p:nvSpPr>
            <p:cNvPr id="1105" name="AutoShape 27"/>
            <p:cNvSpPr/>
            <p:nvPr/>
          </p:nvSpPr>
          <p:spPr>
            <a:xfrm>
              <a:off x="1937880" y="4534200"/>
              <a:ext cx="2072160" cy="714240"/>
            </a:xfrm>
            <a:prstGeom prst="wedgeRoundRectCallout">
              <a:avLst>
                <a:gd name="adj1" fmla="val -56972"/>
                <a:gd name="adj2" fmla="val 3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从个位减起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6" name="图片 22" descr="]@P`{@U$K{A7A$9804YYMFT"/>
            <p:cNvPicPr/>
            <p:nvPr/>
          </p:nvPicPr>
          <p:blipFill>
            <a:blip r:embed="rId9"/>
            <a:stretch/>
          </p:blipFill>
          <p:spPr>
            <a:xfrm>
              <a:off x="731880" y="4248000"/>
              <a:ext cx="105408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7" name="组合 27"/>
          <p:cNvGrpSpPr/>
          <p:nvPr/>
        </p:nvGrpSpPr>
        <p:grpSpPr>
          <a:xfrm>
            <a:off x="2917800" y="5424480"/>
            <a:ext cx="3154320" cy="770040"/>
            <a:chOff x="2917800" y="5424480"/>
            <a:chExt cx="3154320" cy="770040"/>
          </a:xfrm>
        </p:grpSpPr>
        <p:sp>
          <p:nvSpPr>
            <p:cNvPr id="1108" name="AutoShape 27"/>
            <p:cNvSpPr/>
            <p:nvPr/>
          </p:nvSpPr>
          <p:spPr>
            <a:xfrm>
              <a:off x="3858480" y="5475240"/>
              <a:ext cx="2213640" cy="668520"/>
            </a:xfrm>
            <a:prstGeom prst="wedgeRoundRectCallout">
              <a:avLst>
                <a:gd name="adj1" fmla="val -68347"/>
                <a:gd name="adj2" fmla="val -112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相同数位对齐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9" name="图片 23" descr="_4`F[E$PX4I}_~SSZVJ7V4J"/>
            <p:cNvPicPr/>
            <p:nvPr/>
          </p:nvPicPr>
          <p:blipFill>
            <a:blip r:embed="rId10"/>
            <a:stretch/>
          </p:blipFill>
          <p:spPr>
            <a:xfrm flipH="1">
              <a:off x="2917800" y="5424480"/>
              <a:ext cx="507600" cy="7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0" name="组合 26"/>
          <p:cNvGrpSpPr/>
          <p:nvPr/>
        </p:nvGrpSpPr>
        <p:grpSpPr>
          <a:xfrm>
            <a:off x="4376880" y="4457880"/>
            <a:ext cx="4339800" cy="1271520"/>
            <a:chOff x="4376880" y="4457880"/>
            <a:chExt cx="4339800" cy="1271520"/>
          </a:xfrm>
        </p:grpSpPr>
        <p:sp>
          <p:nvSpPr>
            <p:cNvPr id="1111" name="AutoShape 27"/>
            <p:cNvSpPr/>
            <p:nvPr/>
          </p:nvSpPr>
          <p:spPr>
            <a:xfrm>
              <a:off x="4376880" y="4457880"/>
              <a:ext cx="3382560" cy="91836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哪一位上的数不够减，要从前一位退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……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2" name="图片 24" descr="AG]4}@PH9UX]GS)L_H5_`K9"/>
            <p:cNvPicPr/>
            <p:nvPr/>
          </p:nvPicPr>
          <p:blipFill>
            <a:blip r:embed="rId11"/>
            <a:stretch/>
          </p:blipFill>
          <p:spPr>
            <a:xfrm flipH="1">
              <a:off x="8062200" y="4533840"/>
              <a:ext cx="654480" cy="1195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文本框 19"/>
          <p:cNvSpPr/>
          <p:nvPr/>
        </p:nvSpPr>
        <p:spPr>
          <a:xfrm>
            <a:off x="1341360" y="1152360"/>
            <a:ext cx="6075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三位数减三位数退位减法的计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20"/>
          <p:cNvSpPr/>
          <p:nvPr/>
        </p:nvSpPr>
        <p:spPr>
          <a:xfrm>
            <a:off x="279360" y="1897200"/>
            <a:ext cx="86886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计算三位数减三位数时，先把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相同数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然后从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位减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哪一位不够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要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位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退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本位上的数相加后再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6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18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9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6" name="TextBox 1"/>
          <p:cNvSpPr/>
          <p:nvPr/>
        </p:nvSpPr>
        <p:spPr>
          <a:xfrm>
            <a:off x="285840" y="784080"/>
            <a:ext cx="221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列竖式计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组合 11"/>
          <p:cNvGrpSpPr/>
          <p:nvPr/>
        </p:nvGrpSpPr>
        <p:grpSpPr>
          <a:xfrm>
            <a:off x="357120" y="1784520"/>
            <a:ext cx="1643040" cy="1571400"/>
            <a:chOff x="357120" y="1784520"/>
            <a:chExt cx="1643040" cy="1571400"/>
          </a:xfrm>
        </p:grpSpPr>
        <p:sp>
          <p:nvSpPr>
            <p:cNvPr id="1128" name="TextBox 54"/>
            <p:cNvSpPr/>
            <p:nvPr/>
          </p:nvSpPr>
          <p:spPr>
            <a:xfrm>
              <a:off x="357120" y="17845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8 4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2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8 2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直接连接符 55"/>
            <p:cNvSpPr/>
            <p:nvPr/>
          </p:nvSpPr>
          <p:spPr>
            <a:xfrm>
              <a:off x="499680" y="29988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TextBox 1"/>
          <p:cNvSpPr/>
          <p:nvPr/>
        </p:nvSpPr>
        <p:spPr>
          <a:xfrm>
            <a:off x="285840" y="1355760"/>
            <a:ext cx="84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44-21        353-123        278-75       406-1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57"/>
          <p:cNvSpPr/>
          <p:nvPr/>
        </p:nvSpPr>
        <p:spPr>
          <a:xfrm>
            <a:off x="1214280" y="135576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82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58"/>
          <p:cNvSpPr/>
          <p:nvPr/>
        </p:nvSpPr>
        <p:spPr>
          <a:xfrm>
            <a:off x="3643200" y="135576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59"/>
          <p:cNvSpPr/>
          <p:nvPr/>
        </p:nvSpPr>
        <p:spPr>
          <a:xfrm>
            <a:off x="5857920" y="135576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60"/>
          <p:cNvSpPr/>
          <p:nvPr/>
        </p:nvSpPr>
        <p:spPr>
          <a:xfrm>
            <a:off x="8072280" y="135576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组合 11"/>
          <p:cNvGrpSpPr/>
          <p:nvPr/>
        </p:nvGrpSpPr>
        <p:grpSpPr>
          <a:xfrm>
            <a:off x="2643120" y="1784520"/>
            <a:ext cx="1643040" cy="1571400"/>
            <a:chOff x="2643120" y="1784520"/>
            <a:chExt cx="1643040" cy="1571400"/>
          </a:xfrm>
        </p:grpSpPr>
        <p:sp>
          <p:nvSpPr>
            <p:cNvPr id="1136" name="TextBox 62"/>
            <p:cNvSpPr/>
            <p:nvPr/>
          </p:nvSpPr>
          <p:spPr>
            <a:xfrm>
              <a:off x="2643120" y="17845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5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1 2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3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直接连接符 63"/>
            <p:cNvSpPr/>
            <p:nvPr/>
          </p:nvSpPr>
          <p:spPr>
            <a:xfrm>
              <a:off x="2785680" y="29988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组合 11"/>
          <p:cNvGrpSpPr/>
          <p:nvPr/>
        </p:nvGrpSpPr>
        <p:grpSpPr>
          <a:xfrm>
            <a:off x="5072040" y="1784520"/>
            <a:ext cx="1643040" cy="1571400"/>
            <a:chOff x="5072040" y="1784520"/>
            <a:chExt cx="1643040" cy="1571400"/>
          </a:xfrm>
        </p:grpSpPr>
        <p:sp>
          <p:nvSpPr>
            <p:cNvPr id="1139" name="TextBox 65"/>
            <p:cNvSpPr/>
            <p:nvPr/>
          </p:nvSpPr>
          <p:spPr>
            <a:xfrm>
              <a:off x="5072040" y="17845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7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7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0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直接连接符 66"/>
            <p:cNvSpPr/>
            <p:nvPr/>
          </p:nvSpPr>
          <p:spPr>
            <a:xfrm>
              <a:off x="5214600" y="29988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组合 11"/>
          <p:cNvGrpSpPr/>
          <p:nvPr/>
        </p:nvGrpSpPr>
        <p:grpSpPr>
          <a:xfrm>
            <a:off x="7072200" y="1784520"/>
            <a:ext cx="1643040" cy="1571400"/>
            <a:chOff x="7072200" y="1784520"/>
            <a:chExt cx="1643040" cy="1571400"/>
          </a:xfrm>
        </p:grpSpPr>
        <p:sp>
          <p:nvSpPr>
            <p:cNvPr id="1142" name="TextBox 68"/>
            <p:cNvSpPr/>
            <p:nvPr/>
          </p:nvSpPr>
          <p:spPr>
            <a:xfrm>
              <a:off x="7072200" y="17845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0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1 0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0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直接连接符 69"/>
            <p:cNvSpPr/>
            <p:nvPr/>
          </p:nvSpPr>
          <p:spPr>
            <a:xfrm>
              <a:off x="7214760" y="29988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组合 11"/>
          <p:cNvGrpSpPr/>
          <p:nvPr/>
        </p:nvGrpSpPr>
        <p:grpSpPr>
          <a:xfrm>
            <a:off x="357120" y="4284720"/>
            <a:ext cx="1643040" cy="1571400"/>
            <a:chOff x="357120" y="4284720"/>
            <a:chExt cx="1643040" cy="1571400"/>
          </a:xfrm>
        </p:grpSpPr>
        <p:sp>
          <p:nvSpPr>
            <p:cNvPr id="1145" name="TextBox 71"/>
            <p:cNvSpPr/>
            <p:nvPr/>
          </p:nvSpPr>
          <p:spPr>
            <a:xfrm>
              <a:off x="35712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5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6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8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直接连接符 72"/>
            <p:cNvSpPr/>
            <p:nvPr/>
          </p:nvSpPr>
          <p:spPr>
            <a:xfrm>
              <a:off x="499680" y="54990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TextBox 1"/>
          <p:cNvSpPr/>
          <p:nvPr/>
        </p:nvSpPr>
        <p:spPr>
          <a:xfrm>
            <a:off x="285840" y="3855960"/>
            <a:ext cx="84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54-66        480-85         133-74        206-5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74"/>
          <p:cNvSpPr/>
          <p:nvPr/>
        </p:nvSpPr>
        <p:spPr>
          <a:xfrm>
            <a:off x="1285920" y="385596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8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75"/>
          <p:cNvSpPr/>
          <p:nvPr/>
        </p:nvSpPr>
        <p:spPr>
          <a:xfrm>
            <a:off x="3500280" y="385596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9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5857920" y="385596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5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77"/>
          <p:cNvSpPr/>
          <p:nvPr/>
        </p:nvSpPr>
        <p:spPr>
          <a:xfrm>
            <a:off x="8072280" y="3855960"/>
            <a:ext cx="85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组合 11"/>
          <p:cNvGrpSpPr/>
          <p:nvPr/>
        </p:nvGrpSpPr>
        <p:grpSpPr>
          <a:xfrm>
            <a:off x="2643120" y="4284720"/>
            <a:ext cx="1643040" cy="1571400"/>
            <a:chOff x="2643120" y="4284720"/>
            <a:chExt cx="1643040" cy="1571400"/>
          </a:xfrm>
        </p:grpSpPr>
        <p:sp>
          <p:nvSpPr>
            <p:cNvPr id="1153" name="TextBox 79"/>
            <p:cNvSpPr/>
            <p:nvPr/>
          </p:nvSpPr>
          <p:spPr>
            <a:xfrm>
              <a:off x="264312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8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8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9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直接连接符 80"/>
            <p:cNvSpPr/>
            <p:nvPr/>
          </p:nvSpPr>
          <p:spPr>
            <a:xfrm>
              <a:off x="2785680" y="54990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组合 11"/>
          <p:cNvGrpSpPr/>
          <p:nvPr/>
        </p:nvGrpSpPr>
        <p:grpSpPr>
          <a:xfrm>
            <a:off x="5072040" y="4284720"/>
            <a:ext cx="1643040" cy="1571400"/>
            <a:chOff x="5072040" y="4284720"/>
            <a:chExt cx="1643040" cy="1571400"/>
          </a:xfrm>
        </p:grpSpPr>
        <p:sp>
          <p:nvSpPr>
            <p:cNvPr id="1156" name="TextBox 82"/>
            <p:cNvSpPr/>
            <p:nvPr/>
          </p:nvSpPr>
          <p:spPr>
            <a:xfrm>
              <a:off x="507204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3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7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直接连接符 83"/>
            <p:cNvSpPr/>
            <p:nvPr/>
          </p:nvSpPr>
          <p:spPr>
            <a:xfrm>
              <a:off x="5214600" y="54990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组合 11"/>
          <p:cNvGrpSpPr/>
          <p:nvPr/>
        </p:nvGrpSpPr>
        <p:grpSpPr>
          <a:xfrm>
            <a:off x="7072200" y="4284720"/>
            <a:ext cx="1643040" cy="1571400"/>
            <a:chOff x="7072200" y="4284720"/>
            <a:chExt cx="1643040" cy="1571400"/>
          </a:xfrm>
        </p:grpSpPr>
        <p:sp>
          <p:nvSpPr>
            <p:cNvPr id="1159" name="TextBox 85"/>
            <p:cNvSpPr/>
            <p:nvPr/>
          </p:nvSpPr>
          <p:spPr>
            <a:xfrm>
              <a:off x="707220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0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  5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5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直接连接符 86"/>
            <p:cNvSpPr/>
            <p:nvPr/>
          </p:nvSpPr>
          <p:spPr>
            <a:xfrm>
              <a:off x="7214760" y="549900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2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64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文本框 99"/>
          <p:cNvSpPr/>
          <p:nvPr/>
        </p:nvSpPr>
        <p:spPr>
          <a:xfrm>
            <a:off x="520560" y="1128600"/>
            <a:ext cx="8509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列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5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9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4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6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1"/>
          <p:cNvSpPr/>
          <p:nvPr/>
        </p:nvSpPr>
        <p:spPr>
          <a:xfrm>
            <a:off x="4599000" y="209520"/>
            <a:ext cx="1341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4"/>
          <p:cNvGrpSpPr/>
          <p:nvPr/>
        </p:nvGrpSpPr>
        <p:grpSpPr>
          <a:xfrm>
            <a:off x="3492360" y="1851120"/>
            <a:ext cx="1643040" cy="1571400"/>
            <a:chOff x="3492360" y="1851120"/>
            <a:chExt cx="1643040" cy="1571400"/>
          </a:xfrm>
        </p:grpSpPr>
        <p:sp>
          <p:nvSpPr>
            <p:cNvPr id="1175" name="TextBox 54"/>
            <p:cNvSpPr/>
            <p:nvPr/>
          </p:nvSpPr>
          <p:spPr>
            <a:xfrm>
              <a:off x="3492360" y="18511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1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1 8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2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直接连接符 3"/>
            <p:cNvSpPr/>
            <p:nvPr/>
          </p:nvSpPr>
          <p:spPr>
            <a:xfrm>
              <a:off x="3722040" y="307980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文本框 5"/>
          <p:cNvSpPr/>
          <p:nvPr/>
        </p:nvSpPr>
        <p:spPr>
          <a:xfrm>
            <a:off x="2363760" y="1506600"/>
            <a:ext cx="880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组合 6"/>
          <p:cNvGrpSpPr/>
          <p:nvPr/>
        </p:nvGrpSpPr>
        <p:grpSpPr>
          <a:xfrm>
            <a:off x="520560" y="1994040"/>
            <a:ext cx="1641600" cy="1571400"/>
            <a:chOff x="520560" y="1994040"/>
            <a:chExt cx="1641600" cy="1571400"/>
          </a:xfrm>
        </p:grpSpPr>
        <p:sp>
          <p:nvSpPr>
            <p:cNvPr id="1179" name="TextBox 54"/>
            <p:cNvSpPr/>
            <p:nvPr/>
          </p:nvSpPr>
          <p:spPr>
            <a:xfrm>
              <a:off x="520560" y="1994040"/>
              <a:ext cx="16416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6 5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2 8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6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直接连接符 8"/>
            <p:cNvSpPr/>
            <p:nvPr/>
          </p:nvSpPr>
          <p:spPr>
            <a:xfrm>
              <a:off x="683280" y="3177720"/>
              <a:ext cx="1340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组合 9"/>
          <p:cNvGrpSpPr/>
          <p:nvPr/>
        </p:nvGrpSpPr>
        <p:grpSpPr>
          <a:xfrm>
            <a:off x="6122880" y="1851120"/>
            <a:ext cx="1643040" cy="1555560"/>
            <a:chOff x="6122880" y="1851120"/>
            <a:chExt cx="1643040" cy="1555560"/>
          </a:xfrm>
        </p:grpSpPr>
        <p:sp>
          <p:nvSpPr>
            <p:cNvPr id="1182" name="TextBox 54"/>
            <p:cNvSpPr/>
            <p:nvPr/>
          </p:nvSpPr>
          <p:spPr>
            <a:xfrm>
              <a:off x="6122880" y="1851120"/>
              <a:ext cx="16430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1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4 9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1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直接连接符 13"/>
            <p:cNvSpPr/>
            <p:nvPr/>
          </p:nvSpPr>
          <p:spPr>
            <a:xfrm>
              <a:off x="6352560" y="306720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14"/>
          <p:cNvGrpSpPr/>
          <p:nvPr/>
        </p:nvGrpSpPr>
        <p:grpSpPr>
          <a:xfrm>
            <a:off x="3421080" y="4259160"/>
            <a:ext cx="1643040" cy="1571760"/>
            <a:chOff x="3421080" y="4259160"/>
            <a:chExt cx="1643040" cy="1571760"/>
          </a:xfrm>
        </p:grpSpPr>
        <p:sp>
          <p:nvSpPr>
            <p:cNvPr id="1185" name="TextBox 54"/>
            <p:cNvSpPr/>
            <p:nvPr/>
          </p:nvSpPr>
          <p:spPr>
            <a:xfrm>
              <a:off x="3421080" y="42591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6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1 8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7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直接连接符 16"/>
            <p:cNvSpPr/>
            <p:nvPr/>
          </p:nvSpPr>
          <p:spPr>
            <a:xfrm>
              <a:off x="3650760" y="548784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7"/>
          <p:cNvGrpSpPr/>
          <p:nvPr/>
        </p:nvGrpSpPr>
        <p:grpSpPr>
          <a:xfrm>
            <a:off x="6202440" y="4259160"/>
            <a:ext cx="1643040" cy="1571760"/>
            <a:chOff x="6202440" y="4259160"/>
            <a:chExt cx="1643040" cy="1571760"/>
          </a:xfrm>
        </p:grpSpPr>
        <p:sp>
          <p:nvSpPr>
            <p:cNvPr id="1188" name="TextBox 54"/>
            <p:cNvSpPr/>
            <p:nvPr/>
          </p:nvSpPr>
          <p:spPr>
            <a:xfrm>
              <a:off x="6202440" y="42591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3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2 1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1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直接连接符 19"/>
            <p:cNvSpPr/>
            <p:nvPr/>
          </p:nvSpPr>
          <p:spPr>
            <a:xfrm>
              <a:off x="6432120" y="548784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组合 20"/>
          <p:cNvGrpSpPr/>
          <p:nvPr/>
        </p:nvGrpSpPr>
        <p:grpSpPr>
          <a:xfrm>
            <a:off x="441360" y="4259160"/>
            <a:ext cx="1643040" cy="1571760"/>
            <a:chOff x="441360" y="4259160"/>
            <a:chExt cx="1643040" cy="1571760"/>
          </a:xfrm>
        </p:grpSpPr>
        <p:sp>
          <p:nvSpPr>
            <p:cNvPr id="1191" name="TextBox 54"/>
            <p:cNvSpPr/>
            <p:nvPr/>
          </p:nvSpPr>
          <p:spPr>
            <a:xfrm>
              <a:off x="441360" y="42591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2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 3 4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7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直接连接符 22"/>
            <p:cNvSpPr/>
            <p:nvPr/>
          </p:nvSpPr>
          <p:spPr>
            <a:xfrm>
              <a:off x="671040" y="5487840"/>
              <a:ext cx="1341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文本框 23"/>
          <p:cNvSpPr/>
          <p:nvPr/>
        </p:nvSpPr>
        <p:spPr>
          <a:xfrm>
            <a:off x="5135400" y="1508040"/>
            <a:ext cx="881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24"/>
          <p:cNvSpPr/>
          <p:nvPr/>
        </p:nvSpPr>
        <p:spPr>
          <a:xfrm>
            <a:off x="7765920" y="1508040"/>
            <a:ext cx="881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25"/>
          <p:cNvSpPr/>
          <p:nvPr/>
        </p:nvSpPr>
        <p:spPr>
          <a:xfrm>
            <a:off x="2303640" y="3565440"/>
            <a:ext cx="880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26"/>
          <p:cNvSpPr/>
          <p:nvPr/>
        </p:nvSpPr>
        <p:spPr>
          <a:xfrm>
            <a:off x="4992840" y="3565440"/>
            <a:ext cx="880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27"/>
          <p:cNvSpPr/>
          <p:nvPr/>
        </p:nvSpPr>
        <p:spPr>
          <a:xfrm>
            <a:off x="7994520" y="3565440"/>
            <a:ext cx="881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01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2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9" name="文本框 99"/>
          <p:cNvSpPr/>
          <p:nvPr/>
        </p:nvSpPr>
        <p:spPr>
          <a:xfrm>
            <a:off x="365040" y="795240"/>
            <a:ext cx="8166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在横线上填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 7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65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 60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1"/>
          <p:cNvSpPr/>
          <p:nvPr/>
        </p:nvSpPr>
        <p:spPr>
          <a:xfrm>
            <a:off x="2193840" y="1627200"/>
            <a:ext cx="8334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3"/>
          <p:cNvSpPr/>
          <p:nvPr/>
        </p:nvSpPr>
        <p:spPr>
          <a:xfrm>
            <a:off x="2193840" y="2523960"/>
            <a:ext cx="8334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6:41Z</dcterms:created>
  <dc:creator/>
  <dc:description/>
  <dc:language>en-US</dc:language>
  <cp:lastModifiedBy>万润仪器贸易公司</cp:lastModifiedBy>
  <dcterms:modified xsi:type="dcterms:W3CDTF">2020-08-21T01:20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